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image12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201-1D07-49E3-9723-A35AFBAC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ADE-EEBD-489B-B6CD-1C716615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A72-C768-4CEF-9656-CA565368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102-419A-46A4-98C1-1926F2C6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916-71A8-4B9F-86D5-7077514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3BC-38CA-4289-8FCA-F491A9CF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8BE-B295-403A-AF2C-0EB5A87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1E6-C223-4B20-8B41-B15619D5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98C-0FC1-42FA-8E26-8AAF7E9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566-38A0-427F-AF11-ACE4F35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6A1-FC1E-4704-8D0D-39FEBC6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7DE-594A-4DA5-A1B3-3943469D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59B-62DE-4E1A-9AE0-AC78FF947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 4   Feed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6160" y="404640"/>
            <a:ext cx="65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60" y="0"/>
            <a:ext cx="663192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79440"/>
            <a:ext cx="939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kim the text to find which of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 be the argument of the pass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Something can be done to make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o one in the world goes 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The human race has the inform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ence to protect people from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Humans have not been wise enough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rrect decisions to stop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7400" y="404640"/>
            <a:ext cx="98784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How many evidences can b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upport the argu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wo.        B. Three.       C. Fou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And What are they?  Read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Does the writer give some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how to solve the 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strawb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0628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 E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bought from farmers and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00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rmers are paid not to grow crop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easons for world hun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n India: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7339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Most land is owned by rich landown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ess-developed count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" y="2054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armers are forced to plant cash cro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western countrie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95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rain is fed to beef c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" y="0"/>
            <a:ext cx="379404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sk 1: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89647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oday farming employs more peopl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y other typ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For one thing, two thirds of the earth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rface is water, although this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vide a lot of food in the form of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田正在一天天地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520" y="6064200"/>
            <a:ext cx="88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rmland is becoming smaller  day b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Now listen to the tape of the text and answer the following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0400"/>
            <a:ext cx="91440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Do you think the human race can do something to make sure that  no one in the world goes hungr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029200"/>
            <a:ext cx="25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Arial"/>
              </a:rPr>
              <a:t>Y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. What can farmers received from the EU if they leave some of their fields free and do not plant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394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cc"/>
                </a:solidFill>
                <a:latin typeface="Arial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89400"/>
            <a:ext cx="9144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3.Is it possible to grow crops in hilly, dry or mountainous are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56272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9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8720" y="42048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Read the text again and answer more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22732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What percentage  of    the land is farmed in the European Union?  Is there enough food to eat in the E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0" y="5302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81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6880" y="5318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014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What do farmers in the EU do if they produce too many crops? What happens to the cro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258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have the right to sell their crops to the 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81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 are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What has been proved to be a good way to produce more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et farmers grow crops either to feed their family or to s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How do the rich people in India pay the peasants who work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4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ay very little mone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Could food production be higher in Ind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498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0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What has been suggested then? Can this idea be put into practice? 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66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Share the land equa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4680" y="2590920"/>
            <a:ext cx="184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38098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ecause most Indian politicians are landowners and they would not vote to lose their land and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What do some less-developed countries do to develop their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560" y="2114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 borrow mone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00" y="3125880"/>
            <a:ext cx="86868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How  can  we   make good use of hilly,dry or mountainous  area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57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To keep sheep or go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836640"/>
            <a:ext cx="87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text is about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ow to feed the world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people’s wrongdoing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present problems in feeding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some sug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 reason for lack of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440" y="340056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920" y="26028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aragraph 2 doesn’t tell us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some places food is more th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re is not lack of food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developed countries don’ t lack fo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how to solve the unbalance of foo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4197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9880" y="404640"/>
            <a:ext cx="88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土地要养活占世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2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人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The Chinese people ar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making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g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efforts to protec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ir farm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The FAO ha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worked out that up to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of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s lost in stor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在继续开发新型高产植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052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nly 7 % of the land has to feed 22% of the world po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5229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cientists continue to develop new type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lants which produce heavier cr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n the European Union, farmers are 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ky  because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the price of crop is the best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the farmland is quite good for cr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r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he farming is quite developed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y can get money without grow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Paragraph 3 tells us the problem in feeding the world also exists in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the crop’s quality      B. the quantity of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the farmland      D. the ownership of farm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Paragraph 3 tells us that India is not a (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 cou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developing                  B. agri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fair                              D. p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535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7913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ash crops can’t be used to produc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oil       B. drinks       C. cigarette        D.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Cash crops can’t be used to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make money                B. fe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help less-developed countries ou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99520" y="1311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What does “repay” in paragraph 4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pay again        B. pay back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end                 D. b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What does “raise” in the last para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ise        B. increase       C. feed      D. 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54440" y="13716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48640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1080" y="38088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The suggestion made in the last paragraph is that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e should raise more cattle or sh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e shouldn’t  raise cattle or sheep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rm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e shouldn’t use grain to feed ca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2240" y="301680"/>
            <a:ext cx="49737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3880"/>
            <a:ext cx="457200" cy="478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680" y="1523880"/>
            <a:ext cx="932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ful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hungry, go mad / bad /wrong /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from bad to wo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generally / frankly / strictly/exactly/hone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so far= up till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make a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Leave the fields free, leave the door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eave him alone, leave the door unlock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7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6. result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lead to, bring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902600"/>
            <a:ext cx="82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a) result in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可用来表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起、导致或造成（某种结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640" y="456876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The trial resulted in his being sentenced to two years' imprisonme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审判结果是他被判刑两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78487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traffic accident resulted in three death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起交通事故造成三人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esulted in =ca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85800"/>
            <a:ext cx="75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no doubt that hard work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sults 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c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5320" y="2741760"/>
            <a:ext cx="8290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b) resul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可以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连用，意为“作为……的结果”，表示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=There is no doubt tha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uccess results from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65040"/>
            <a:ext cx="8532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) Her injury resulted from a fall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她因跌倒而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) It’s said that his lameness resulted from an accident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据说他的瘸腿是一次事故造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) Sickness often results from eating too much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疾病往往因为吃得太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4) The accident resulted from carelessness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故因粗心而产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1695600"/>
            <a:ext cx="7921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‘re only 16; you’re too young to vote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岁，还没到选举的年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) Money for a new school was voted by the board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办一所新学校的钱已由董事会通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te v. n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投票，选举，表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-76320"/>
            <a:ext cx="612144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67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Shall we have dinner right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Oh, please. I ____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will starve       B. am star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starved   D. have star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470400"/>
            <a:ext cx="8915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We traveled ___ for the purpose of reaching the village before the enemy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the day            B. day by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day and night      D. day aft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337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120" y="62485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675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ichever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引导让步状语从句。“不论哪一个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管你用那种方法做这件事，结果都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has the same result whichever way you do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000" y="533520"/>
            <a:ext cx="860436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养育子女，饲养牲畜     相当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one’s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pigs and catt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make sens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ave a meaning that can be understoo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讲得通，合乎道理。有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doesn’t  make any sense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very good sense to keep sheep or go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422280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this sentence make se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make sense of what this writer sa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30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享，分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t.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ill 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bles and my j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愿和我苦乐与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oubl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joy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rrow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ri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ppines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xcitemen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upp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 sth.with s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某人分享某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“合用”解时，是及物动词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hare a small room between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作名词，意为“一份，份额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verybody ought to have his share of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152280"/>
            <a:ext cx="89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“Should I fail the college exam, all my hopes ___.” She said, looking anxio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uld be damaged  B was destr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harmed     D. would be ru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We didn’t plan our art exhibition like that but it ____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rked out     B. t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ent on          D. carried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4382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7498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667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“ I don’t want to buy the dress. ____, I don’t like the colour, and____ the price is ____ high.” the girl said to the shop assi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one thing; for an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For a thing; for the other; much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For one thing; for another;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For one thing; for 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307332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3124080"/>
            <a:ext cx="2590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(mo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320040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 c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19920"/>
            <a:ext cx="1219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286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(pi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17220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971800"/>
            <a:ext cx="99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048120"/>
            <a:ext cx="914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5943600"/>
            <a:ext cx="762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943600"/>
            <a:ext cx="1371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3276360" cy="206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50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4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4191120" cy="536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2806560"/>
            <a:ext cx="358164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3:21:13Z</dcterms:created>
  <dc:creator>w</dc:creator>
  <dc:description/>
  <dc:language>en-US</dc:language>
  <cp:lastModifiedBy>w</cp:lastModifiedBy>
  <dcterms:modified xsi:type="dcterms:W3CDTF">2004-09-05T13:21:38Z</dcterms:modified>
  <cp:revision>1</cp:revision>
  <dc:subject/>
  <dc:title>Unit 4   Feed the World</dc:title>
</cp:coreProperties>
</file>